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54240" y="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4960" y="68580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5424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AC22-7983-4366-ADD9-BF7B3C17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5460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035-288C-4CAA-9B47-B7CE8A61D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8320" y="67788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460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E51F-48B8-4302-BBB6-244F6026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70-35FE-46CF-B17E-272BEDFA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1D5-BEF9-44C4-A3C1-34CE9CF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DDE-391C-42BC-BAB5-6460F0A8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280-8A5E-468E-A4E7-301C4268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D53-5593-43C9-8C97-000CAA4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240-CF53-4F9A-B528-D240D77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4E0-209A-423A-912F-4AA72BEE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7F5-80E4-492D-8D51-152BE56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82A-2C2B-41BF-82E9-9FC745D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D25-767F-4C5C-8694-0FE2A64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709-72CE-4384-BEC9-FC954F6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AD3-8D47-4F00-8BCE-4916692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5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845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8453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8453b"/>
              </a:buClr>
              <a:buSzPct val="75000"/>
              <a:buFont typeface="Times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84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7C09-FAB0-480F-BBD0-C875817F63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2004 Michigan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6FBE-211D-48FB-A37A-7D501CE2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9186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yriad Pro"/>
                <a:ea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Myriad Pro"/>
                <a:ea typeface="Arial"/>
              </a:rPr>
              <a:t>Center for the Study of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MSU-Wordmark-White"/>
          <p:cNvPicPr/>
          <p:nvPr/>
        </p:nvPicPr>
        <p:blipFill>
          <a:blip r:embed="rId2"/>
          <a:srcRect l="6010" t="18819" r="7568" b="16877"/>
          <a:stretch/>
        </p:blipFill>
        <p:spPr>
          <a:xfrm>
            <a:off x="228600" y="6595920"/>
            <a:ext cx="105084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"/>
          <p:cNvSpPr/>
          <p:nvPr/>
        </p:nvSpPr>
        <p:spPr>
          <a:xfrm>
            <a:off x="1522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01b"/>
              </a:gs>
              <a:gs pos="50000">
                <a:srgbClr val="18453b"/>
              </a:gs>
              <a:gs pos="100000">
                <a:srgbClr val="0b2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yriad Pro Black"/>
              </a:rPr>
              <a:t>The Common Core State Standards for Mathematics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MSU-Wordmark-White"/>
          <p:cNvPicPr/>
          <p:nvPr/>
        </p:nvPicPr>
        <p:blipFill>
          <a:blip r:embed="rId1"/>
          <a:stretch/>
        </p:blipFill>
        <p:spPr>
          <a:xfrm>
            <a:off x="533520" y="5486400"/>
            <a:ext cx="32004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057000" y="586728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iam H. Schmi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ndards Relationship to Student Achieve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Influenced by . . 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52280" y="1676520"/>
            <a:ext cx="883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Instructional support materials produced by state, e.g., teacher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Professional development for teachers sponsored/authorized b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ssessments and assessment cut-points that support state’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SSM Congruence and NAEP Mathematic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94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The change in the R-square between a model including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nly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he congruence measure to one that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djusted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he congruence measure for the NAEP cut points yielded a 12% incr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s Affecting CCSSM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948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tate assessment definitions of pro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438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Measure of 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438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Percent of low-income family students attending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ating State Standards to NAEP 2009 Sco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85800" y="6095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0.016     *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152280" y="1600200"/>
          <a:ext cx="883944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8394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cy With the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1752480"/>
            <a:ext cx="79250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Consistency of state standards with the CCSSM range from 66% — 83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The measure of consistency for the A+ standard is about 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cy With the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600200"/>
          <a:ext cx="8305560" cy="36669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1600200"/>
                <a:gridCol w="1523880"/>
                <a:gridCol w="1600200"/>
                <a:gridCol w="1371600"/>
              </a:tblGrid>
              <a:tr h="2437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Like CC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b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or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i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nes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ssi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lah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Da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Da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ess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an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wa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Car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syl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Car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Virgi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c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in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br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Hampsh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i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o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Like CC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tuc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Jers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de Is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con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4" name="AutoShape 1"/>
          <p:cNvCxnSpPr/>
          <p:nvPr/>
        </p:nvCxnSpPr>
        <p:spPr>
          <a:xfrm flipV="1">
            <a:off x="12709080" y="6311160"/>
            <a:ext cx="1080" cy="17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"/>
          <p:cNvCxnSpPr/>
          <p:nvPr/>
        </p:nvCxnSpPr>
        <p:spPr>
          <a:xfrm flipV="1">
            <a:off x="12861720" y="6463440"/>
            <a:ext cx="1080" cy="17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3"/>
          <p:cNvCxnSpPr/>
          <p:nvPr/>
        </p:nvCxnSpPr>
        <p:spPr>
          <a:xfrm flipV="1">
            <a:off x="914040" y="1980720"/>
            <a:ext cx="108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tive Sample of Teachers in Each CCSSM-Adopted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94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90% have heard of the CCS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70% have read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More than 90% like the idea of Common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Thoughts about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8600" y="12193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9880" indent="-5698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fter reading sample CCSSM topics for their grade, ~80% say CCSSM is “pretty much the same” as their form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If CCSSM places a topic they currently teach in a different grade only about ¼ would dr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achers Sense of Preparedness to Teach CCSSM Topic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9880" indent="-5698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Grades 1-5: About ½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Grades 6-8: Around 60%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High School: Around 70%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mon Core State Standards for Mathematics (CCSSM)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475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re world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C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otenti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levate the academic performance of America’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ost states have a long way to go: som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eachers and parents overwhelmingly supp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But w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convince student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mon Core State Standards for Mathematics (CCSSM)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475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re world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C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otenti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levate the academic performance of America’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ost states have a long way to go: som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eachers and parents overwhelmingly supp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But w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convince student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-Achieving Countries Composite Mathematics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19320" y="647640"/>
            <a:ext cx="5441760" cy="590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781680" y="5562720"/>
            <a:ext cx="2298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Level Agre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228600" y="620640"/>
            <a:ext cx="6450120" cy="59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2"/>
          <a:srcRect l="8917" t="0" r="0" b="0"/>
          <a:stretch/>
        </p:blipFill>
        <p:spPr>
          <a:xfrm>
            <a:off x="6781680" y="6019920"/>
            <a:ext cx="23623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Common Core State Standards for Mathema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25760" y="609480"/>
            <a:ext cx="5079960" cy="592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705720" y="5791320"/>
            <a:ext cx="22986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Standard Based on Composite Profile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-Achieving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4876920" cy="583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18795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of Topics Intended at Each Grade for Various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7000" y="2133720"/>
          <a:ext cx="908064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2133720"/>
                    <a:ext cx="9080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SSM Congruence and NAEP Mathematic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914400" y="175248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tates with past mathematics standards that wer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more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imilar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o the CCSSM had statistically significantly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igher 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NAEP 2009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 Standards May Affect Student Achieve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766440" y="1447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60320" y="495288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roo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82920" y="3048120"/>
            <a:ext cx="29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2"/>
          <p:cNvSpPr/>
          <p:nvPr/>
        </p:nvSpPr>
        <p:spPr>
          <a:xfrm>
            <a:off x="1905120" y="2286000"/>
            <a:ext cx="457200" cy="26668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133d36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 Arrow 7"/>
          <p:cNvSpPr/>
          <p:nvPr/>
        </p:nvSpPr>
        <p:spPr>
          <a:xfrm rot="14911800">
            <a:off x="4350240" y="3250080"/>
            <a:ext cx="850680" cy="3087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133d36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6"/>
          <p:cNvCxnSpPr/>
          <p:nvPr/>
        </p:nvCxnSpPr>
        <p:spPr>
          <a:xfrm>
            <a:off x="3352680" y="1905120"/>
            <a:ext cx="3201120" cy="1296000"/>
          </a:xfrm>
          <a:prstGeom prst="straightConnector1">
            <a:avLst/>
          </a:prstGeom>
          <a:ln cap="sq" w="101520">
            <a:solidFill>
              <a:srgbClr val="195349"/>
            </a:solidFill>
            <a:custDash>
              <a:ds d="300000" sp="100000"/>
            </a:custDash>
            <a:miter/>
            <a:tailEnd len="med" type="arrow" w="med"/>
          </a:ln>
        </p:spPr>
      </p:cxn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7:05:17Z</dcterms:created>
  <dc:creator>Leland Cogan</dc:creator>
  <dc:description/>
  <dc:language>en-US</dc:language>
  <cp:lastModifiedBy>sara good</cp:lastModifiedBy>
  <cp:lastPrinted>2012-05-02T18:13:12Z</cp:lastPrinted>
  <dcterms:modified xsi:type="dcterms:W3CDTF">2012-10-19T22:56:51Z</dcterms:modified>
  <cp:revision>734</cp:revision>
  <dc:subject>TNE</dc:subject>
  <dc:title>Center for Research in Mathematics and Science Education</dc:title>
</cp:coreProperties>
</file>